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8E0-F8D7-4D5D-8BD7-CA9E1404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C01-2452-4D46-85C1-668490F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416-D7C2-42E3-9AF9-E2916DB7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6FE-B645-4D85-BCC2-31391053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DFE-93A4-4858-A8D0-93D30BEE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9A9-BB27-4A91-9104-F25F5978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441-E001-4985-938A-FC36C18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38D-A8B1-496F-A956-73132A5F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AC5-45C8-4073-B107-25A6C429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193-C8F5-4311-A8BE-7AD3DCC2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B42-DD18-4714-9052-4DEEE98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305-946C-4B89-A84A-168AE9C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09AE-43ED-47DE-979F-439C6293E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228600"/>
            <a:ext cx="83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  <a:ea typeface="Arial"/>
              </a:rPr>
              <a:t>Initi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809880" y="3657600"/>
            <a:ext cx="1879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809880" y="3276720"/>
            <a:ext cx="1997280" cy="16905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733920" y="152388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6629400" y="2286000"/>
            <a:ext cx="2073240" cy="99864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4800600" y="2514600"/>
            <a:ext cx="0" cy="730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V="1">
            <a:off x="5562720" y="3048120"/>
            <a:ext cx="1190520" cy="4982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086600" y="2590920"/>
            <a:ext cx="1306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6705720" y="4114800"/>
            <a:ext cx="215100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5791320" y="4191120"/>
            <a:ext cx="998280" cy="1918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3733920" y="5562720"/>
            <a:ext cx="2073240" cy="9982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4800600" y="4952880"/>
            <a:ext cx="0" cy="614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9"/>
          <p:cNvSpPr/>
          <p:nvPr/>
        </p:nvSpPr>
        <p:spPr>
          <a:xfrm>
            <a:off x="609480" y="4419720"/>
            <a:ext cx="2303640" cy="115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2819160" y="4572000"/>
            <a:ext cx="1152360" cy="230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1143000" y="2590920"/>
            <a:ext cx="1766880" cy="96048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 flipH="1" flipV="1">
            <a:off x="2666880" y="3428640"/>
            <a:ext cx="1190880" cy="422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6019920" y="6491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51:15Z</dcterms:created>
  <dc:creator>Ann Johnson</dc:creator>
  <dc:description/>
  <dc:language>en-US</dc:language>
  <cp:lastModifiedBy>Ann</cp:lastModifiedBy>
  <dcterms:modified xsi:type="dcterms:W3CDTF">2009-07-20T12:45:34Z</dcterms:modified>
  <cp:revision>5</cp:revision>
  <dc:subject/>
  <dc:title>Slide 1</dc:title>
</cp:coreProperties>
</file>